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BB9E-BE36-4EBC-849E-E96DE1D11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C392-BC89-4451-BD70-7D72EF75F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DE60-CCB2-4EC5-BB7C-AD45E35DB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285-8347-4C37-B2F1-0CCE9ED7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947B-D506-434B-9019-513B0E1A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9E2-6DF6-4711-A47E-4AA66A94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1936-0C8C-4811-99F7-F3020892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DB9A-25BB-4FDD-AF7A-11D6D37B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3C0A-BCA2-46E8-A77E-5DAFF0E3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2BD7-B769-4642-98E5-2743824F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2A46-AE89-438B-B82F-E1B4BF06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557B-4CAB-44D8-96FE-74A9717E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A036-BAB7-4B78-A585-221680CE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1BE1-2AEC-4048-A835-A8E54577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F18E-9A78-4A8E-B468-FEEA1742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DABD-4FF8-46D6-A97B-DA54BE58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BE94-C7A2-4B0E-ACB0-6A12AD83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FCBB-3ADC-4423-AC6D-73827162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13B0-CDDB-4B08-BA04-D94A87EC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4FE6-2CD6-471A-8D8C-1402E35B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1BF87-68D8-4E09-8B8D-9DED33F1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47824-5BFB-4431-BBF1-B8DA5967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A7391-8CA0-44FB-8B02-B38120C7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18155-F679-4712-B863-3882D225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C6860-8C2D-4D01-BEBB-5126DF2B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412-DE39-44D4-8562-AEAD22BD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A4805-1211-4DBE-AB2E-5A307E53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8012A-4920-42CF-83F4-7921B989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A9C27-7B43-47C3-82F6-74FDB078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4C12A-E19A-4236-B777-508F6B05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C268-EAA5-4640-B66A-AD8364D9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44640-B8AE-4977-83A8-6E483FB6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66089-D1F5-4DAB-AA5D-AB5D8A08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D2B-F812-4ADC-A3C9-6EE8EFBF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FC7-C96D-402C-A280-32074CD9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940-CB1C-43C1-8802-5112DC33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AEC-1B83-42CA-A241-7932D938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A192-1050-4D17-BC70-72F4F990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96C-F49D-4DC0-ADFA-C200884A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C540-AC6E-4AE5-A9CA-1473F92FBC2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C46C-ABF2-4B36-865E-7CAACF11DF88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95959"/>
                </a:solidFill>
                <a:latin typeface="Century Gothic"/>
              </a:rPr>
              <a:t>Copyright Sasa Popović, Ekonomski fakultet, Podgo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FBEA-825B-4D32-8BC2-36CCE7563D0B}" type="slidenum">
              <a:rPr b="0" lang="sr-Latn-C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500" spc="-1" strike="noStrike">
                <a:solidFill>
                  <a:srgbClr val="0000ff"/>
                </a:solidFill>
                <a:latin typeface="Palatino Linotype"/>
              </a:rPr>
              <a:t>U</a:t>
            </a:r>
            <a:r>
              <a:rPr b="1" lang="en-US" sz="2500" spc="-1" strike="noStrike">
                <a:solidFill>
                  <a:srgbClr val="0000ff"/>
                </a:solidFill>
                <a:latin typeface="Palatino Linotype"/>
              </a:rPr>
              <a:t>niverzitet Crne Gore</a:t>
            </a:r>
            <a:br>
              <a:rPr sz="2500"/>
            </a:br>
            <a:r>
              <a:rPr b="1" lang="sr-Latn-ME" sz="2500" spc="-1" strike="noStrike">
                <a:solidFill>
                  <a:srgbClr val="0000ff"/>
                </a:solidFill>
                <a:latin typeface="Palatino Linotype"/>
              </a:rPr>
              <a:t>Pomorski fakultet, Kotor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lang="sr-Latn-ME" sz="2800" spc="-1" strike="noStrike">
                <a:solidFill>
                  <a:srgbClr val="0000ff"/>
                </a:solidFill>
                <a:latin typeface="Palatino Linotype"/>
              </a:rPr>
              <a:t>OSNOVE FINANSIJA</a:t>
            </a:r>
            <a:br>
              <a:rPr sz="3100"/>
            </a:br>
            <a:r>
              <a:rPr b="1" lang="sr-BA" sz="1800" spc="-1" strike="noStrike">
                <a:solidFill>
                  <a:srgbClr val="0000ff"/>
                </a:solidFill>
                <a:latin typeface="Palatino Linotype"/>
              </a:rPr>
              <a:t> U</a:t>
            </a:r>
            <a:r>
              <a:rPr b="1" lang="en-US" sz="1800" spc="-1" strike="noStrike">
                <a:solidFill>
                  <a:srgbClr val="0000ff"/>
                </a:solidFill>
                <a:latin typeface="Palatino Linotype"/>
              </a:rPr>
              <a:t>vodne informacije o predmetu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lang="sr-Latn-ME" sz="2200" spc="-1" strike="noStrike">
                <a:solidFill>
                  <a:srgbClr val="0000ff"/>
                </a:solidFill>
                <a:latin typeface="Palatino Linotype"/>
              </a:rPr>
              <a:t>D</a:t>
            </a:r>
            <a:r>
              <a:rPr b="1" lang="en-US" sz="2200" spc="-1" strike="noStrike">
                <a:solidFill>
                  <a:srgbClr val="0000ff"/>
                </a:solidFill>
                <a:latin typeface="Palatino Linotype"/>
              </a:rPr>
              <a:t>r Ana Mugoša</a:t>
            </a:r>
            <a:endParaRPr b="0" lang="en-US" sz="22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200" spc="-1" strike="noStrike">
                <a:solidFill>
                  <a:srgbClr val="2f5897"/>
                </a:solidFill>
                <a:latin typeface="Palatino Linotype"/>
              </a:rPr>
              <a:t>Osnove informacije o predmetu</a:t>
            </a:r>
            <a:endParaRPr b="0" lang="en-US" sz="22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-293760" y="1744560"/>
          <a:ext cx="9458280" cy="183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3760" y="1744560"/>
                    <a:ext cx="945828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6"/>
          <p:cNvSpPr/>
          <p:nvPr/>
        </p:nvSpPr>
        <p:spPr>
          <a:xfrm>
            <a:off x="1355760" y="3922560"/>
            <a:ext cx="42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25440" y="3276720"/>
            <a:ext cx="883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edavač: Doc. dr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 Ana Mugoš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snovna literatu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Osnove finansijskog menad</a:t>
            </a:r>
            <a:r>
              <a:rPr b="0" i="1" lang="sr-Latn-ME" sz="1800" spc="-1" strike="noStrike" u="sng">
                <a:solidFill>
                  <a:srgbClr val="000000"/>
                </a:solidFill>
                <a:uFillTx/>
                <a:latin typeface="Calibri"/>
              </a:rPr>
              <a:t>ž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menta, Van Horne i Wachowicz</a:t>
            </a:r>
            <a:r>
              <a:rPr b="0" i="1" lang="sr-Latn-ME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sr-Latn-ME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ME" sz="1600" spc="-1" strike="noStrike">
                <a:solidFill>
                  <a:srgbClr val="000000"/>
                </a:solidFill>
                <a:latin typeface="Calibri"/>
              </a:rPr>
              <a:t>preuzet dio koji se odnosi na Finansijsko izvještavanje i Evaluaciju investicija</a:t>
            </a:r>
            <a:r>
              <a:rPr b="0" i="1" lang="sr-Latn-ME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800" spc="-1" strike="noStrike" u="sng">
                <a:solidFill>
                  <a:srgbClr val="000000"/>
                </a:solidFill>
                <a:uFillTx/>
                <a:latin typeface="Calibri"/>
              </a:rPr>
              <a:t>Pomorske finansije, Ranka Krivokapić (</a:t>
            </a:r>
            <a:r>
              <a:rPr b="0" lang="sr-Latn-ME" sz="1600" spc="-1" strike="noStrike">
                <a:solidFill>
                  <a:srgbClr val="000000"/>
                </a:solidFill>
                <a:latin typeface="Calibri"/>
              </a:rPr>
              <a:t>finansiranje nabavke brodova i osiguranje</a:t>
            </a:r>
            <a:r>
              <a:rPr b="0" i="1" lang="sr-Latn-ME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 sva dodatna pitanja možete se obratiti na mail </a:t>
            </a:r>
            <a:r>
              <a:rPr b="0" lang="pl-PL" sz="1800" spc="-1" strike="noStrike">
                <a:solidFill>
                  <a:srgbClr val="0033cc"/>
                </a:solidFill>
                <a:latin typeface="Calibri"/>
              </a:rPr>
              <a:t>ana.mugosa@ucg.ac.m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200" spc="-1" strike="noStrike">
                <a:solidFill>
                  <a:srgbClr val="2f5897"/>
                </a:solidFill>
                <a:latin typeface="Palatino Linotype"/>
              </a:rPr>
              <a:t>Informaciona lista</a:t>
            </a:r>
            <a:endParaRPr b="0" lang="en-US" sz="22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474840" y="914400"/>
          <a:ext cx="8080200" cy="572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840" y="914400"/>
                    <a:ext cx="8080200" cy="57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Latn-CS" sz="2200" spc="-1" strike="noStrike">
                <a:solidFill>
                  <a:srgbClr val="2f5897"/>
                </a:solidFill>
                <a:latin typeface="Palatino Linotype"/>
              </a:rPr>
              <a:t>Oblici provjere znanja i ocjenjivanje</a:t>
            </a:r>
            <a:r>
              <a:rPr b="0" lang="sr-Latn-CS" sz="2000" spc="-1" strike="noStrike">
                <a:solidFill>
                  <a:srgbClr val="2f5897"/>
                </a:solidFill>
                <a:latin typeface="Palatino Linotype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Kolokvijum</a:t>
            </a:r>
            <a:r>
              <a:rPr b="0" lang="sr-Latn-ME" sz="2400" spc="-1" strike="noStrike">
                <a:solidFill>
                  <a:srgbClr val="7f7f7f"/>
                </a:solidFill>
                <a:latin typeface="Century Gothic"/>
              </a:rPr>
              <a:t>                   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6</a:t>
            </a:r>
            <a:r>
              <a:rPr b="0" lang="sr-Latn-ME" sz="2400" spc="-1" strike="noStrike">
                <a:solidFill>
                  <a:srgbClr val="7f7f7f"/>
                </a:solidFill>
                <a:latin typeface="Century Gothic"/>
              </a:rPr>
              <a:t>0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 poena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Zavr</a:t>
            </a:r>
            <a:r>
              <a:rPr b="0" lang="sr-Latn-ME" sz="2400" spc="-1" strike="noStrike">
                <a:solidFill>
                  <a:srgbClr val="7f7f7f"/>
                </a:solidFill>
                <a:latin typeface="Century Gothic"/>
              </a:rPr>
              <a:t>šni                               25 poen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Praktični rad                     10 poena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Aktivnost na času            5  poena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  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7f7f"/>
                </a:solidFill>
                <a:latin typeface="Century Gothic"/>
              </a:rPr>
              <a:t>    </a:t>
            </a:r>
            <a:r>
              <a:rPr b="1" lang="sr-Latn-CS" sz="2400" spc="-1" strike="noStrike">
                <a:solidFill>
                  <a:srgbClr val="7f7f7f"/>
                </a:solidFill>
                <a:latin typeface="Century Gothic"/>
              </a:rPr>
              <a:t>UKUPNO</a:t>
            </a:r>
            <a:r>
              <a:rPr b="1" lang="sr-Latn-C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               </a:t>
            </a:r>
            <a:r>
              <a:rPr b="1" lang="sr-Latn-ME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1" lang="sr-Latn-ME" sz="2400" spc="-1" strike="noStrike">
                <a:solidFill>
                  <a:srgbClr val="7f7f7f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 1</a:t>
            </a:r>
            <a:r>
              <a:rPr b="1" lang="sr-Latn-CS" sz="2400" spc="-1" strike="noStrike">
                <a:solidFill>
                  <a:srgbClr val="7f7f7f"/>
                </a:solidFill>
                <a:latin typeface="Century Gothic"/>
              </a:rPr>
              <a:t>00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  poen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3520" y="4191120"/>
          <a:ext cx="7924680" cy="1020600"/>
        </p:xfrm>
        <a:graphic>
          <a:graphicData uri="http://schemas.openxmlformats.org/drawingml/2006/table">
            <a:tbl>
              <a:tblPr/>
              <a:tblGrid>
                <a:gridCol w="1320840"/>
                <a:gridCol w="1320480"/>
                <a:gridCol w="1320840"/>
                <a:gridCol w="1320840"/>
                <a:gridCol w="1320840"/>
                <a:gridCol w="1320840"/>
              </a:tblGrid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j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do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-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-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-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f5897"/>
                </a:solidFill>
                <a:latin typeface="Palatino Linotype"/>
              </a:rPr>
              <a:t>Terminski plan ispitnih obaveza</a:t>
            </a: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52" name="Object 2"/>
          <p:cNvGraphicFramePr/>
          <p:nvPr/>
        </p:nvGraphicFramePr>
        <p:xfrm>
          <a:off x="84240" y="2133720"/>
          <a:ext cx="9707400" cy="242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2133720"/>
                    <a:ext cx="970740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08:09:47Z</dcterms:created>
  <dc:creator>User</dc:creator>
  <dc:description/>
  <dc:language>en-US</dc:language>
  <cp:lastModifiedBy>Ana Mugosa</cp:lastModifiedBy>
  <dcterms:modified xsi:type="dcterms:W3CDTF">2021-02-12T13:02:53Z</dcterms:modified>
  <cp:revision>27</cp:revision>
  <dc:subject/>
  <dc:title>Univerzitet Crne Gore Ekonomski fakultet   FINANSIJSKI MENADŽMENT  Uvodne informacije o predmetu     Prof. dr Saša Popović Mr Ana Mugoša</dc:title>
</cp:coreProperties>
</file>